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D80-6F09-41E6-975D-B2B74985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0CA-C62C-47EB-9458-D4DCAC35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4D4-6BEA-4DD9-A060-F2C28E5C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544-1B25-49F6-A095-B6CB6F2B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00B2-A8E9-4508-AB52-7A04D1A9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9F7B-4558-4880-A55E-DE9EE08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2AC9-63A4-4E0B-AC2E-9637BBAB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DC8C-4A4B-45A3-9449-3F707819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D46E-8DDA-4464-A842-64C67C3E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4230-06CB-4938-826E-D1EAA93A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7600-EECE-435F-9646-8EBEE89C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C73-F51B-4EBC-A8D9-F39D770E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1D81-4EDB-4C76-B880-37A233EF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8495-2FCE-47D7-A541-43C2FEA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70F7-1F83-47E4-AD40-A7C1B766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97A3-85DD-4434-923D-6B871D88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BB68-8235-422D-A438-B18774C9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3B0-09DE-4BD7-9A91-3B379167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77D-6F46-41C0-B764-F3F5A4E0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E12-54B7-4F9A-9B5E-3A53E745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8C4-523D-4798-93F7-F9E26FCA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9E1-CE13-47BB-8AC3-14C08EB3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FFC-8331-4618-9378-40A1106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48C-D252-4D15-BEA9-BC1D47D1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2D55-EBC9-406C-9897-92107E477697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FCBB-941F-4A43-BE01-679FB2BC9E94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Leben auf Planeten mit exzentrischen Orbits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27813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xcursions beyond the habitable zo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esa Eybl,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UE Habitabilität von Supererde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17.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404280"/>
            <a:ext cx="7313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Grenzen der </a:t>
            </a: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solaren</a:t>
            </a: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 HZ nach Kast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innere Grenze zwischen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0.95 AU (Wasserdampf bildet sich in der Stratosphäre), und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0.85 AU (Temperaturanstieg infolge eines runaway greenhouse-Effekt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äußere Grenze bei 1.37 AU (Bildung von CO2-Wolke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renzen der CHZ zwischen 0.95 und 1.15 A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Elliptische Orbits in der HZ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(Williams &amp; Pollard, 2002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ein Drittel der entdeckten Exoplaneten besitzt Exzentrizitäten &gt; 0.4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d.h. der Planet verlässt in jedem Orbit die habitable Zon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nach konservativer Ansicht nicht habitabel, aber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Ist Leben vielleicht auch dort möglich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sdehnung der Grenzen der HZ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äußere Grenze kann sich unter bestimmten Bedingungen nach außen verschiebe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Bedeckung mit CO</a:t>
            </a:r>
            <a:r>
              <a:rPr b="0" lang="de-DE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-Wolken </a:t>
            </a:r>
            <a:r>
              <a:rPr b="0" lang="de-DE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Erwärmung des Planeten durch Streuung im Infraro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Unter optimalen Bedingungen könnte ein Planet bis zu 2.4 AU warm genug sei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Überlegung: 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Wann wäre solch ein Planet habitabel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trotz der Extrembedingungen in Peri- und Apoastron könnten globale Vereisung oder runaway greenhouse vermieden werd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wenn der </a:t>
            </a:r>
            <a:r>
              <a:rPr b="0" i="1" lang="de-DE" sz="2900" spc="-1" strike="noStrike">
                <a:solidFill>
                  <a:srgbClr val="000000"/>
                </a:solidFill>
                <a:latin typeface="Verdana"/>
              </a:rPr>
              <a:t>gemittelte Energiefluss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vom Stern dem quasi konstanten Energiefluss der Sonne auf die Erde entspricht (~1370 W/m²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Stellarer Fluss für exzentrische Orbi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ttlerer Flus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über einen Orbi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urchschnittlicher Energiefluss STEIGT mit höherer Exzentrizitä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urzzeitige Schwankungen können durch diverse atmosphärische Mechanismen ausgeglichen werd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932360" y="1844640"/>
                <a:ext cx="35812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a</m:t>
                        </m:r>
                        <m:r>
                          <m:t xml:space="preserve">²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8243640" cy="4746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anetensysteme und ihre HZ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4292640"/>
            <a:ext cx="3960720" cy="1608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equivalent solar distanc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Abstand von der Sonne, in dem ein Planet auf kreisförmigem Orbit denselben Energiefluss empfangen wü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rechnungsmodel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Simulation eines erdähnlichen Planeten in exzentrischen Orbi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3D Klimamodell GENESIS2 (Thompson &amp; Pollard 1997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ndimensionales Energiebilanz-Modell EBM (Williams &amp; Kasting 1997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ESIS2 Klimamodel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70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llgemeine atmosphärische Zirkulatio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simuliert Oberfläche mit Vegetation, Erde, Schnee und Eis mit 2°x2° Auflösung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fix: a=1.0 AU, P=365d,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=23.45°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Rotationsachse, Topographie und atm. Zusammensetzung wie auf der Er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variable Sonnenleuchtkraft </a:t>
            </a: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verschiedene Positionen innerhalb der H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4 Simulationen mit e=0.1, 0.3, 0.4, 0.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Erhöhung der Exzentrizität auf 0.4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GCM runs 1-3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8066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Erhöhung der Exzentrizität nahe der inneren Grenze der HZ bei gleichbleibender Sonnenleuchtkraft, Halbachse und CO2-Konzent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47411" r="0" b="0"/>
          <a:stretch/>
        </p:blipFill>
        <p:spPr>
          <a:xfrm>
            <a:off x="755640" y="1628640"/>
            <a:ext cx="5184720" cy="2792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6588000" cy="4160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19640" y="4797360"/>
            <a:ext cx="64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Resultate: GCM runs 1-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3903" b="0"/>
          <a:stretch/>
        </p:blipFill>
        <p:spPr>
          <a:xfrm>
            <a:off x="4067280" y="1557360"/>
            <a:ext cx="4824360" cy="3382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0" t="-1617" r="0" b="0"/>
          <a:stretch/>
        </p:blipFill>
        <p:spPr>
          <a:xfrm>
            <a:off x="250920" y="2565360"/>
            <a:ext cx="381636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484280"/>
            <a:ext cx="4930920" cy="4930920"/>
          </a:xfrm>
          <a:prstGeom prst="donut">
            <a:avLst>
              <a:gd name="adj" fmla="val 17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Lage der habitablen Zo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1916280"/>
            <a:ext cx="4257720" cy="42573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8936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445400">
            <a:off x="1547640" y="620640"/>
            <a:ext cx="6478920" cy="6491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834800">
            <a:off x="2700000" y="1915920"/>
            <a:ext cx="4257720" cy="421452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989000"/>
            <a:ext cx="4392720" cy="404820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36800">
            <a:off x="2339640" y="1915920"/>
            <a:ext cx="4317840" cy="36892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4777800">
            <a:off x="3853800" y="1482480"/>
            <a:ext cx="3019680" cy="475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2565360"/>
            <a:ext cx="381636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87640" y="3428640"/>
            <a:ext cx="47530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4005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16360" y="2997000"/>
            <a:ext cx="367344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133720"/>
            <a:ext cx="2089080" cy="36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Resultate: GCM runs 1-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234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=0.0167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e=0.4 bewirkt Anstieg der globalen Durchschnittstemperatur von 14.6° auf 30.1°C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eit innerhalb der HZ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65d (e&lt;0.1)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180d (e=0.4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uchtigkeit und Niederschlag steigen mit höherer Temperatur aufgrund erhöhter Verdunstungsrat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erstes Stadium der Destabilisierung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uftfeuchtigkeit in Stratosphäre erst ab 65°C (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erlust von Wasser durch Photolys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Resultate: GCM runs 1-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Wasserverlust setzt ein Limit in der Exzentrizität für Planeten mit 1AU, die einem stellaren Fluss von 1 L</a:t>
            </a:r>
            <a:r>
              <a:rPr b="0" lang="de-DE" sz="2900" spc="-1" strike="noStrike" baseline="-25000">
                <a:solidFill>
                  <a:srgbClr val="000000"/>
                </a:solidFill>
                <a:latin typeface="Verdana"/>
              </a:rPr>
              <a:t>Sonne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ausgesetzt sind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renze durch Wasserverlust in Stratosphäre bei e=0.42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renze durch runaway greenhouse bei e=0.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Simulation eines Planeten mit e=0.7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GCM run 4 &amp; EBM runs 1-3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Planeten mit hoher Exzentrizität entdeckt (16 Cygni B, HD222582)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befinden sich in HZ, jedoch nur für Bruchteil ihres Orbits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Simulation eines solchen Planeten mit einer Exzentrizität von 0.7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=1.0 AU, L=0.714 L</a:t>
            </a:r>
            <a:r>
              <a:rPr b="0" lang="de-DE" sz="2500" spc="-1" strike="noStrike" baseline="-25000">
                <a:solidFill>
                  <a:srgbClr val="000000"/>
                </a:solidFill>
                <a:latin typeface="Verdana"/>
              </a:rPr>
              <a:t>Sonne </a:t>
            </a: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entspricht dem mittleren Fluss, den die Erde in einem kreisförmigen Orbit empfangen wür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Resultate: 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GCM run 4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6769080" cy="3789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0" r="6870" b="0"/>
          <a:stretch/>
        </p:blipFill>
        <p:spPr>
          <a:xfrm>
            <a:off x="4751280" y="0"/>
            <a:ext cx="4392720" cy="317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6732720" cy="3716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3144960"/>
            <a:ext cx="6659640" cy="3713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24720" y="1341360"/>
            <a:ext cx="28728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333360"/>
            <a:ext cx="28728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28000" y="1628640"/>
            <a:ext cx="2872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1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Resultate: GCM run 4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704000" cy="42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Resultate: GCM run 4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634160" cy="42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Resultate: GCM run 4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Durchschnittstemperatur 7.8°C wärmer als die Erde, obwohl dem selben stellaren Fluss ausgesetz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heißeste Temperatur &gt;80°C </a:t>
            </a: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schädlich für viele Lebensform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llerdings nur kurze Dauer (60-90d) wegen hoher Geschwindigkeit im Perih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64% außerhalb der HZ </a:t>
            </a: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Temperaturen fallen, aber nicht unter Gefrierpunk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Ozean besitzt das ganze Jahr über flüssiges Wass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EBM Model (Williams &amp; Kasting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bezieht den Carbonat-Silicat-Zyklus mit ei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zuerst Vergleich mit GCM (run 1)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dann Berechnung des Gleichgewichts-CO2-Niveaus das erforderlich ist für Ausgleich zwischen Produktion (Vulkane) und Umwandlung (Verwitterung, Ablagerung in Erdkruste)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leichgewichts-CO2-Levels für Planeten weiter außerhalb in der HZ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L = 0.6, 0.5, 0.4 L</a:t>
            </a:r>
            <a:r>
              <a:rPr b="0" lang="de-DE" sz="2500" spc="-1" strike="noStrike" baseline="-25000">
                <a:solidFill>
                  <a:srgbClr val="000000"/>
                </a:solidFill>
                <a:latin typeface="Verdana"/>
              </a:rPr>
              <a:t>Sonne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, e und a konsta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4440" y="0"/>
            <a:ext cx="7999560" cy="5237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0" t="47332" r="0" b="0"/>
          <a:stretch/>
        </p:blipFill>
        <p:spPr>
          <a:xfrm>
            <a:off x="324000" y="4371840"/>
            <a:ext cx="46083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291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sultate: EBM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4702" r="6776" b="0"/>
          <a:stretch/>
        </p:blipFill>
        <p:spPr>
          <a:xfrm>
            <a:off x="2340000" y="1197000"/>
            <a:ext cx="5940360" cy="4046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31640" y="5373720"/>
            <a:ext cx="731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Vergleich der globalen mittleren Temperatur für GCM run 4, EBM run 1 und 2. A, B und C zeigen die Position des Planeten für die Temperaturkart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trasolare Planet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80360" cy="4181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484360" y="2492280"/>
            <a:ext cx="1800360" cy="237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55308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79640" y="2924280"/>
            <a:ext cx="2448000" cy="23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ultate: EB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end: CO2-Erhöhung als Reaktion auf schwächere Leuchtkraf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witterungsrate verlangsamt sich bei niedrigen Temperature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2 akkumuliert in Atm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wirkt Temperatur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rhöhung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on 12 auf 17°C (wärmer als Erde bei 1 AU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blem: Bildung von CO2 Wol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ür L=0.4LSonne und e=0.7, bewegt sich der Planet zwischen einer skalierten solaren Distanz von 0.4AU im Perihel und 2.26AU im Aphel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gleich der Modellierung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9039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zi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urzzeitige extreme Klimaschwankungen auf elliptischen Orbits schließen Möglichkeit für Leben nicht a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zeitstabilität hängt hauptsächlich vom mittleren stellaren Fluss über einen gesamten Orbit ab, nicht so sehr von der Zeit in der H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ige der bisher entdeckten extrasolaren Gasplaneten könnten trotz hoher Exzentrizität auf ihren Monden Bedingungen für die Entwicklung von Leben bie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ößere Anzahl von Planeten als angenommen könnten für Leben geeignet sei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Leben auf Exoplaneten?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Arial"/>
              </a:rPr>
              <a:t>Kriterien für Habitabilitä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827000"/>
            <a:ext cx="4050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ach Kasting 1993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Vorhandensein von flüssigem Wass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Planet muss sich für Entwicklung dauerhaft in der habitablen Zone (HZ) befind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CHZ = continuously habitable zone</a:t>
            </a:r>
            <a:br>
              <a:rPr sz="2100"/>
            </a:b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= Bereich der über mehrere Jahrmilliarden in der HZ liegt (Sternentwicklung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42562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4581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limamechanismen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92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Temperaturextreme gedämpft durch Carbonat-Silicat-Zyklus </a:t>
            </a: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beeinflusst die Menge an CO2 in Atmosphär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Rate von CO2 Ablagerung in Erdkruste ist temperaturabhängig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Planeten nahe dem äußeren Rand der HZ sollten also eine dichte CO2 Atmosphäre aufweisen </a:t>
            </a: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effizientere Wärmeleitung und -Speicheru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Carbonat-Silikat-Zyklu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Zusammenhang von atmosphärischem CO2-Anteil und Oberflächentemperatur </a:t>
            </a: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CO2 Niveau in Atm. steigt/sinkt mit fallenden/steigenden Temperature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Atm. CO2 verringert sich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Verwitterung von Kalzium- und Magnesiumsilikaten im Gestein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Einlagerung in Sediment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Kohlenstoff in 400 Millionen Jahren aufgebraucht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Carbonat-Silikat-Zyklu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Plattenverschiebungen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Sedimente unter großem Druck und hoher 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Bildung von Kalziumsilikaten und gasförmigem CO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Ausstoß durch Vulka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Erhöhung des atm. CO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de-AT" sz="3200" spc="-1" strike="noStrike">
                <a:solidFill>
                  <a:srgbClr val="006666"/>
                </a:solidFill>
                <a:latin typeface="Arial"/>
              </a:rPr>
              <a:t>Carbonat-Silikat-Zyklus</a:t>
            </a:r>
            <a:br>
              <a:rPr sz="3200"/>
            </a:br>
            <a:r>
              <a:rPr b="0" lang="de-AT" sz="3200" spc="-1" strike="noStrike">
                <a:solidFill>
                  <a:srgbClr val="006666"/>
                </a:solidFill>
                <a:latin typeface="Arial"/>
              </a:rPr>
              <a:t>Negatives Feedbac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Verwitterung braucht flüssiges Wass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Gefrorene Ozeane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Verwitterung stoppt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Ansammlung von CO2 in Atmosphä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Bildung einer dichten CO2 Atm.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Treibhauseffekt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Eis schmilz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Realistisch: CO2-Erhöhung schon vor Einfrieren der Ozeane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globale Vereisung wird verhinde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erklärt die Stabilität unseres Klimas trotz anfänglich schwächerer Sonnenstrahlu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Bedingungen für Grenzen der HZ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1827000"/>
            <a:ext cx="40500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CO2-Zyklus nicht mehr möglich, wenn CO2 kondensiert (äußere Grenz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Konsequenz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CO2-Wolken </a:t>
            </a:r>
            <a:r>
              <a:rPr b="0" lang="de-A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höhere Albedo </a:t>
            </a:r>
            <a:r>
              <a:rPr b="0" lang="de-A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Abküh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Verringerung des Treibhauseffek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Verdana"/>
              </a:rPr>
              <a:t>Wasserverlust in feuchter Stratosphäre (Photolys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8847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4:33:59Z</dcterms:created>
  <dc:creator>Veresa Eybl</dc:creator>
  <dc:description/>
  <dc:language>en-US</dc:language>
  <cp:lastModifiedBy>Veresa Eybl</cp:lastModifiedBy>
  <dcterms:modified xsi:type="dcterms:W3CDTF">2008-04-17T09:06:38Z</dcterms:modified>
  <cp:revision>12</cp:revision>
  <dc:subject/>
  <dc:title>Habitable Planeten auf exzentrischen Orbits?</dc:title>
</cp:coreProperties>
</file>